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F01D-5725-4678-8997-F3879746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9BA-64AC-4718-9C5C-7C9A9565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3A4-C135-4B12-84FA-018DEB82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2A7-513B-44D5-82DC-80354213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7B3C-9950-421C-A820-A3B28C4E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63A7-B4B8-4C00-8CBB-81C47B9E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6F27-D82A-4CF0-A257-67442C4B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2743-B0DB-4EE3-ABFC-5C99603B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6CB0-5C8E-4FB2-8418-6F1EDF80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A17B-A524-49F1-85AD-349E5F24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7EF6-3940-46CD-9257-8B108896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054-BA4B-4E6C-AEA2-B909D7B9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051C-2210-4280-A3B8-199C3CD4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F89D-98E9-415E-9A4D-95D49FC0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6379-5320-4858-BD1A-B68A8FFF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58AA-52E2-4E1A-80FB-8999C079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C8F5-6F48-4D74-9F55-5947068C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905-6C52-402F-9FD5-D517C4BC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F67-9173-4F86-9071-909D291F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968-0880-4043-BAED-561F4C07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57A-87D1-4515-965E-C95DA2AC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94A-314D-43A8-8B3D-241CA8AD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54D-EF2C-4DE5-A5CB-C82AECE7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E03-B85E-4D83-8D8B-2765CEE0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CC92-E328-44CE-99ED-626081136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6142-C157-4B8B-A9D0-43D732B31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azon.com/gp/product/images/B000R6V9KM/ref=dp_image_0?ie=UTF8&amp;n=165793011&amp;s=toys-and-games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We A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gether We Can Make A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We Did To Hel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Can You Do To Help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re You Smarter Than A Fifth Grader??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Are You Smarter Than A 5th Grader? Gam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743200"/>
            <a:ext cx="3581640" cy="358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 On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 Tw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 Thre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 Four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ote—Author Unknow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 Fiv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 came from interviews, field trips and the following websi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533412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quiry Poi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ganizations in Summit Coun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.A.P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Shel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Rescue of the Rock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.A.P.S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imal Shel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imal Rescue of the Rock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2:14:13Z</dcterms:created>
  <dc:creator>chrisandtom</dc:creator>
  <dc:description/>
  <dc:language>en-US</dc:language>
  <cp:lastModifiedBy>chrisandtom</cp:lastModifiedBy>
  <dcterms:modified xsi:type="dcterms:W3CDTF">2009-05-02T01:42:02Z</dcterms:modified>
  <cp:revision>4</cp:revision>
  <dc:subject/>
  <dc:title>Who We Are</dc:title>
</cp:coreProperties>
</file>