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C38C-E0F2-41EB-B89F-A95E677A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111-F449-492F-961D-4AFEC9BA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92C-F3FB-41EE-9407-01D2C4F0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52A-9973-435F-AC84-A32342F3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3B6E-A668-448A-B92B-4A23AF3A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2FFE-4491-4C02-AEF8-F7A7F926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64AE-1DCD-4923-8E26-69FB9DE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247-A263-49C9-B9FC-8AF68E4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0A3-052B-4D77-B211-DB67BD19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8753-B5A9-420F-92EB-F498FA76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83C3-2D26-463E-BF97-FC0926A5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805-32F6-4BA5-B395-81D81F7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09B5-CABD-45F4-BE61-13AC498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C39-CBA0-4AD1-8FDA-DACF2AD7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393C-6D94-4ECC-A2B1-4B1FDB70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C1E5-B31B-4E23-89D6-A022D50B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B08-114D-43FA-B31D-C6D12DC9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216-B649-4368-95EC-44CE06FE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651-1B1E-4F8B-93BB-9385D6F6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5B8-A6C3-45C2-9747-2553F87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E1C-F66A-412B-AF0C-4583A37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058-063D-4A2F-BD45-BAFC66D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F8C-CBA8-437C-AC17-F81F82A4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36B1-B5BB-49AF-9CB9-E4B6964C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92E-4526-4A5D-BCBF-445ECB50A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E418-976E-4A1B-A559-FDDBE8397A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mazon.com/gp/product/images/B000R6V9KM/ref=dp_image_0?ie=UTF8&amp;n=165793011&amp;s=toys-and-game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We 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gether We Can Make A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We Did To Hel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Can You Do To Help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Are You Smarter Than A Fifth Grader???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Are You Smarter Than A 5th Grader? Gam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743200"/>
            <a:ext cx="3581640" cy="358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 On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Tw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Thre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Four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ote—Author Unknow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 Fi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came from interviews, field trips and the following web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334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nquiry Poi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ganizations in Summit Coun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.A.P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She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Rescue of the Rock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.A.P.S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imal Shel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nimal Rescue of the Rocki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02:14:13Z</dcterms:created>
  <dc:creator>chrisandtom</dc:creator>
  <dc:description/>
  <dc:language>en-US</dc:language>
  <cp:lastModifiedBy>chrisandtom</cp:lastModifiedBy>
  <dcterms:modified xsi:type="dcterms:W3CDTF">2009-05-02T01:42:02Z</dcterms:modified>
  <cp:revision>4</cp:revision>
  <dc:subject/>
  <dc:title>Who We Are</dc:title>
</cp:coreProperties>
</file>